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7985-FC3A-4FC9-B35F-81CC6FDC63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8A2B-2961-423B-B4DF-29D0AECA57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202E-F648-428C-A799-15245C11F0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1AF7-5174-4934-8CD3-0FF2E4291D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DBF7-2B80-4DED-9AD4-D6FA29D223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0A39-DED5-42C8-83A4-7906995D8E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998B-4E5B-47C7-A977-03298B7ADF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3E9B-714F-4251-B958-E8B10BCA43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FC05-1AD6-4B94-B8C0-B1863C08C3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44F7-4E5C-4142-A828-0F872B6181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BBA1-F91A-4706-A33E-92E6BA7C90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104D-86A2-404F-9163-63533CAA37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36ED-FE67-4843-A73F-84E8D862F1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F486-10B3-47F4-8367-0D6CEF3B3E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3583-8A7B-412A-ACE3-5026DFF515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6ED9-FFB2-4D81-8A0C-9E5E1FE17D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763B-E114-4B07-9BA9-60761CB9A4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7EDB-19C8-4A0B-BADB-C83F645FA9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56B9-C753-4BB6-A660-F061BB9E8C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5F8D-69AA-4F95-ABB0-7F4634BACF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AF86-4C13-468B-A746-5C7B5C4D8E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99EB-9019-4377-9C32-409218BDC5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73FC-34D1-4EA8-88A2-EDE44CAC5C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D0ED-05B7-4DB9-85D8-B7516FC2EB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C9F4-68A0-4848-97C8-ACD84CF6C9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2AF8-0371-4A39-A299-B00C1B7896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6B63-9C69-4A3A-A69C-5D57AB60E2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25D3-DA88-471D-9941-4667196EF8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D369-6588-4F71-B8C6-08501E478D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356F-FBCB-4EE4-A48C-7602AE9372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8B15-5B50-4BE5-BC18-72E38F7E57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3ECB-B463-473F-8CE6-233E2FF9AB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BC65-2D26-408A-A549-7C654BD32F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AB4B-010A-46BE-890A-B6016870AA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CCEB-9E47-4533-A2F7-3882B92B35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7388-166E-44CF-9208-9B493C04F0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4D12-FC0E-40C0-899B-F02AC80524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162D-4AA9-434A-95A2-F6332DF916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5A63-B715-4A10-8EB8-21900B3FD2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A703-6608-4305-A2F6-A4542E1F37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FCCD-6446-4DE4-B31A-186DBFD2EA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0828-8157-48C5-9EBD-121EA2D3B3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26D6-E8C3-436A-96FB-AC7485FE12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63E7-E159-40D6-9240-4E1F5A6044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8BA8-F4F9-4AF8-ABCC-D30F206DDA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725C-A3D8-4338-9F7A-0CF76866E9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A981-CDBF-4556-BCB7-0C31B3BFF1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2677-357D-47B3-81DC-AF045DC91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2B85-1365-4573-93D7-120D84DFF4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E83A-9164-46E1-909D-B30045360B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C869-0B7B-4B85-BE43-46EDD201EE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C3D8-D5F6-416D-ABF1-61C19833AE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826A-8303-4449-983F-684CD981CE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CD7A-AF5C-4E7E-A397-77873B8D11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2528-9B8F-4A08-BB72-C939B500B9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EC2A-4BF5-4199-A0B2-40895054FB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A4B5-6922-478E-8302-ECF99E4F45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2C9A-2339-4BFE-B454-C9978AEF1F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5DA3-4A3D-40DC-B1DD-B6D883C86C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BC4D-B5CB-4FD3-9307-2614271A8B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15F2-E081-47F5-8218-A9BE374D83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020A-D568-4744-98C4-FCC8F49DFF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D854-10AD-472B-8836-2E2181CF34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D6FC-1263-4BC6-ACCF-783EA81F61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C827-16AB-4B13-AFB7-AD2BBCD9C6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8670-D6D7-46E4-B259-F2C4FB3642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3181-5383-469E-B581-7D56878CC5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FDE8-8CF5-4E4A-9EB2-D5DEE9C81E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0DAE-27BA-4395-A394-30F1FB8416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40E2-2F61-4118-B109-F8DF4823A2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E362-915B-47AF-8DCD-35D02FAB14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ADE6-ACDC-4602-B4E9-54F3DDA927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B27E-AE52-41A2-8E2D-11EBE9DA93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30DE-F604-4573-9ECF-E40A312EE2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0A13-30D0-4FD3-A46B-FB4359AC05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381D-B93B-4278-80A4-253CB880A0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0BAB-62BD-4491-A157-AB3D29698B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BAD6-A08D-454C-BD6B-287243C6AF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3B4F-B335-432B-81FC-C17D77EEC6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6F1E-42C3-4C86-A40A-C6763ACB6E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9A01-FB0B-4520-803A-24FCCC77DD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60E0-08A1-48E3-8989-F2A8A8ADEE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E332-67F6-4638-A24F-1BC61B5807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0719-E618-4499-8D2C-977342DDFD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D602-7C63-4B12-BC05-C453B3BCF2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39B0-7D9B-4A4B-9B6C-413186E02F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F166-D86D-409E-AE9C-1B8CE2AFD9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DC65-CCC9-49B1-AF52-951E35FF9D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CCAA-7421-4C75-993D-2A47BB5B17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8F84-93CD-4956-A3A4-6BBD8ADD08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8DDA-5AEA-4E3F-8159-2FF7AFDEB3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F701-B8B3-46DC-828F-E6522EEA1B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9334-94E7-40EE-AFC7-1F7743F81C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1491-D79F-4AA6-B717-A18B1F533D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C9E0-143C-4F0B-AD3C-B8E66891B3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B3DC-C5E7-4C38-94FA-D5090DA935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6188-E28C-4210-A420-EEEE291ED9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A32D-6CCA-49BC-81B3-6822641F43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B0CE-CFC5-4092-A2B4-CB35FF3E4E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EA57-C2EC-4593-A656-AF05E94FB0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7A95-21B9-4616-B1D9-C2693C2686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E8D2-0697-4D1E-B176-E018E31290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BE09-6775-4E33-B34F-63B76CE772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5EC8-1938-483A-854D-3520520610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0515-9CCC-4D00-9077-798EBAF9DC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FF81-785A-4A54-B133-6D39FA8956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2BF5-45B5-4CC1-A588-475107C955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9D7F-CBB6-4619-A7C7-739D092F72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68DF-36A8-4487-89C3-C54F0152D4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54BC-BD1A-4C7E-B593-C5A4DDA0E6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399F-0E8F-4F02-A579-AD3A213650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AD2F-31A9-470A-B318-0F036F57CC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1D56-A8A3-4752-B95E-743CE6D1A6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118F-DF3C-4113-B99B-5DF9F3E4D7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7996-A231-4C42-AD5D-FE81E6B6F7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AF73-5E42-438B-904E-BE3F41DEB7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0E96-67A3-4A5A-8879-7015A06623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5EAF-EABE-4E51-BD8E-9340C4E084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DF54-6C5D-4A06-8B03-16705D35B5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334C-9BD1-478B-A028-52E04096FA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CD37-45E2-4BC2-B601-55DD06AC74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4A3B-A0E6-4318-B442-AF4FC8EF08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EE22-2CE0-4BC3-96C2-4CA7B62397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8268-4EEB-4A01-B969-8C6A2B721B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D8C5-485B-48A5-B54A-C923BFCD42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3439-83A9-45B6-9A2A-DA20404160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B1D8-B383-4D25-B4EF-A09764B208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38D7-3D3A-412A-B7ED-DEECCE1D1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8920-35BA-41CC-B773-CE519589B5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93CF-5358-46D9-A1BE-325479D6F2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E70D-0D37-45AB-A313-51FF4516CF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C577-41B6-451B-87EA-8C06AA9183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BC29-39F2-4B21-8848-B10813350A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2365-6AD9-4866-8E7F-AB3700CB5C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CCBA-2832-421D-A461-9E569BF494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78F-4F31-4B31-836E-61F20D87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F59-EE01-4385-87E8-1131AA6E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E3E1-F56A-4EDB-B2C7-806AF417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E203-4342-441A-AD01-31EE4360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CBB9-8AA2-4C49-A760-3620B60E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585B-3A66-40C4-ACBE-77B7F30D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6FD7-1001-4AF0-A55F-B87BBD92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99BE-4A66-478E-84FE-7D936F12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1065-44BC-4739-9E92-C81F1FEE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D67A-5FE6-4AF4-AF4E-F04BF43A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0BFD-91D9-49E7-9AE3-C8679854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E5A2-B8E0-4C92-BEB0-CB5E3271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6A35-E713-4ADB-8969-5BFCE363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8D67-43D3-4FCF-84BC-7861F912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D02B-DAE8-4D40-AF76-6D38BF88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24A7-D1B6-4A79-AAA3-5A93D166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7E93-9B8E-4649-BD3F-2F800A98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888B2-3E99-40EA-BD18-7E3B420D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0A747-C12D-468C-A517-D04870BE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6E0E2-C7A3-47EC-96F4-65040763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A7F72-D5A0-4A19-A4C4-08E3D4B5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5D57C-8A22-4E19-898D-8BD1AFCE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A3B-DEE5-4C66-945F-D1F272BB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FC730-2316-4270-9A42-149AD9F4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854B0-6436-4E56-8C49-427B1169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D6290-B760-4108-89B8-2DD3EF71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39EE8-8325-4B3E-B80E-C12E6499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E63CE-5113-4CC1-B29B-CCB5257A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3867B-2958-46A3-AE82-8B0EC9F0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64AF5-5772-4831-8211-C6CC3BDD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1A7-078F-4B9C-8E3E-7556E4FE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436A-8B9A-45AC-B0C1-98A4DE33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3A0-DC74-497D-B079-9CE55362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D09-EF9A-4730-B005-BE4FE4E0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E35-2B73-4030-8310-E06936B3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945D-22D7-438E-9D94-EF69DFA7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C5D6-8EC7-46A8-9CA2-0F71D4C01ED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CC68-6758-4017-A2C4-56702DF4BF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9804-D03F-43DB-BF27-B3A51ADF908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bertina"/>
          <p:cNvPicPr/>
          <p:nvPr/>
        </p:nvPicPr>
        <p:blipFill>
          <a:blip r:embed="rId1"/>
          <a:stretch/>
        </p:blipFill>
        <p:spPr>
          <a:xfrm>
            <a:off x="1403280" y="404640"/>
            <a:ext cx="6464520" cy="11336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468360" y="1916280"/>
            <a:ext cx="82296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00"/>
                </a:solidFill>
                <a:latin typeface="Georgia"/>
              </a:rPr>
              <a:t>ИСТОРИЯ И ФИЛОСОФИЯ НАУКИ</a:t>
            </a:r>
            <a:br>
              <a:rPr sz="44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http://philoslog.albertina.ru</a:t>
            </a:r>
            <a:br>
              <a:rPr sz="2400"/>
            </a:b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http://ratio.albertina.r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ое знание как развивающаяся систем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ий и теоретический уровни познан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72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85840" y="2714760"/>
            <a:ext cx="3757680" cy="2071440"/>
          </a:xfrm>
          <a:prstGeom prst="rect">
            <a:avLst/>
          </a:prstGeom>
          <a:noFill/>
          <a:ln w="19080">
            <a:solidFill>
              <a:srgbClr val="860000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Взаимодействие эмпирического и теоретического уров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57520" y="2714400"/>
            <a:ext cx="3328920" cy="1957320"/>
          </a:xfrm>
          <a:prstGeom prst="rect">
            <a:avLst/>
          </a:prstGeom>
          <a:noFill/>
          <a:ln w="28440">
            <a:solidFill>
              <a:srgbClr val="860000"/>
            </a:solidFill>
            <a:miter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Развитие научного познан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Стрелка вправо 16"/>
          <p:cNvSpPr/>
          <p:nvPr/>
        </p:nvSpPr>
        <p:spPr>
          <a:xfrm>
            <a:off x="4071960" y="3429000"/>
            <a:ext cx="128592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66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Идеализация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абстрактный объект, который не имеет соответствующего им эмпирического объе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ример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Абсолютно черное тел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Материальная точ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Различие абстракций идеализаций – в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интерпретации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теории на опы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На основе абстракций и идеализация строятся теоретические зако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3059640" y="3500280"/>
            <a:ext cx="24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Закон наук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4859280" y="4869000"/>
            <a:ext cx="29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теоретически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042920" y="486900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эмпирически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9"/>
          <p:cNvSpPr/>
          <p:nvPr/>
        </p:nvSpPr>
        <p:spPr>
          <a:xfrm flipH="1">
            <a:off x="2916000" y="4076640"/>
            <a:ext cx="1439640" cy="8650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0"/>
          <p:cNvSpPr/>
          <p:nvPr/>
        </p:nvSpPr>
        <p:spPr>
          <a:xfrm>
            <a:off x="4356000" y="4076640"/>
            <a:ext cx="1295640" cy="8650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Закон науки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повторяющаяся связь между объектами предметной области науки, доступная объективной проверк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Symbol"/>
                <a:ea typeface="Symbol"/>
              </a:rPr>
              <a:t></a:t>
            </a:r>
            <a:r>
              <a:rPr b="1" i="1" lang="en-US" sz="3600" spc="-1" strike="noStrike">
                <a:solidFill>
                  <a:srgbClr val="660000"/>
                </a:solidFill>
                <a:latin typeface="Georgia"/>
              </a:rPr>
              <a:t>x</a:t>
            </a:r>
            <a:r>
              <a:rPr b="1" lang="en-US" sz="3600" spc="-1" strike="noStrike">
                <a:solidFill>
                  <a:srgbClr val="660000"/>
                </a:solidFill>
                <a:latin typeface="Georgia"/>
              </a:rPr>
              <a:t>(</a:t>
            </a:r>
            <a:r>
              <a:rPr b="1" i="1" lang="en-US" sz="3600" spc="-1" strike="noStrike">
                <a:solidFill>
                  <a:srgbClr val="660000"/>
                </a:solidFill>
                <a:latin typeface="Georgia"/>
              </a:rPr>
              <a:t>P</a:t>
            </a:r>
            <a:r>
              <a:rPr b="1" lang="en-US" sz="3600" spc="-1" strike="noStrike">
                <a:solidFill>
                  <a:srgbClr val="660000"/>
                </a:solidFill>
                <a:latin typeface="Georgia"/>
              </a:rPr>
              <a:t>(</a:t>
            </a:r>
            <a:r>
              <a:rPr b="1" i="1" lang="en-US" sz="3600" spc="-1" strike="noStrike">
                <a:solidFill>
                  <a:srgbClr val="660000"/>
                </a:solidFill>
                <a:latin typeface="Georgia"/>
              </a:rPr>
              <a:t>x</a:t>
            </a:r>
            <a:r>
              <a:rPr b="1" lang="en-US" sz="3600" spc="-1" strike="noStrike">
                <a:solidFill>
                  <a:srgbClr val="660000"/>
                </a:solidFill>
                <a:latin typeface="Georgia"/>
              </a:rPr>
              <a:t>) </a:t>
            </a:r>
            <a:r>
              <a:rPr b="1" lang="en-US" sz="3600" spc="-1" strike="noStrike">
                <a:solidFill>
                  <a:srgbClr val="66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1" i="1" lang="en-US" sz="3600" spc="-1" strike="noStrike">
                <a:solidFill>
                  <a:srgbClr val="660000"/>
                </a:solidFill>
                <a:latin typeface="Georgia"/>
              </a:rPr>
              <a:t>Q</a:t>
            </a:r>
            <a:r>
              <a:rPr b="1" lang="en-US" sz="3600" spc="-1" strike="noStrike">
                <a:solidFill>
                  <a:srgbClr val="660000"/>
                </a:solidFill>
                <a:latin typeface="Georgia"/>
              </a:rPr>
              <a:t>(</a:t>
            </a:r>
            <a:r>
              <a:rPr b="1" i="1" lang="en-US" sz="3600" spc="-1" strike="noStrike">
                <a:solidFill>
                  <a:srgbClr val="660000"/>
                </a:solidFill>
                <a:latin typeface="Georgia"/>
              </a:rPr>
              <a:t>x</a:t>
            </a:r>
            <a:r>
              <a:rPr b="1" lang="en-US" sz="3600" spc="-1" strike="noStrike">
                <a:solidFill>
                  <a:srgbClr val="660000"/>
                </a:solidFill>
                <a:latin typeface="Georgia"/>
              </a:rPr>
              <a:t>)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500040" y="20001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00"/>
                </a:solidFill>
                <a:latin typeface="Georgia"/>
              </a:rPr>
              <a:t>Эмпирический закон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овторяющиеся связи между явлениями, открываемые в ходе  эмпирических научных процедур (наблюдения, измерения, эксперимента) или индуктивного обобщения их результа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. Если металл нагреть, то он расширяется. – 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Обобщение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фак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Теоретический закон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отношения меж</a:t>
            </a:r>
            <a:r>
              <a:rPr b="0" lang="en-US" sz="3200" spc="-1" strike="noStrike">
                <a:solidFill>
                  <a:srgbClr val="660000"/>
                </a:solidFill>
                <a:latin typeface="Georgia"/>
              </a:rPr>
              <a:t>-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ду абстрактными объектами, допускаю</a:t>
            </a:r>
            <a:r>
              <a:rPr b="0" lang="en-US" sz="3200" spc="-1" strike="noStrike">
                <a:solidFill>
                  <a:srgbClr val="660000"/>
                </a:solidFill>
                <a:latin typeface="Georgia"/>
              </a:rPr>
              <a:t>-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щие объективную провер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. </a:t>
            </a:r>
            <a:r>
              <a:rPr b="0" lang="en-US" sz="32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F=m*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428760" y="21427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Объекты научного исследов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611280" y="3429000"/>
          <a:ext cx="7993080" cy="223200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Идеализации = теоретические модел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Абстрактные объект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Эмпирические (наблюдаемые) объект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Rectangle 24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Термины, обозначающие эмпирические объекты называются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эмпирическими термин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Термины, обозначающие абстрактные объекты называются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теоретическими термин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Какие объекты и их отношения допустимы в рамках теории, а какие – нет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Ответ – принципы научной теор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ример. </a:t>
            </a:r>
            <a:r>
              <a:rPr b="1" i="1" lang="ru-RU" sz="2800" spc="-1" strike="noStrike">
                <a:solidFill>
                  <a:srgbClr val="660000"/>
                </a:solidFill>
                <a:latin typeface="Georgia"/>
              </a:rPr>
              <a:t>Принцип сохранения энергии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. При всех преобразованиях количество энергии должно оставаться неизменны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Научное исследование созда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1523880" y="3357720"/>
          <a:ext cx="6096240" cy="21031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Принципы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Теоретические законы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Эмпирические законы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1" name="Rectangle 24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956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2. </a:t>
            </a:r>
            <a:r>
              <a:rPr b="1" lang="ru-RU" sz="22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 Научный факт и его теоретическая нагруженность</a:t>
            </a:r>
            <a:endParaRPr b="0" lang="en-US" sz="2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00"/>
                </a:solidFill>
                <a:latin typeface="Georgia"/>
              </a:rPr>
              <a:t>Мир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33520" indent="-623880">
              <a:lnSpc>
                <a:spcPct val="100000"/>
              </a:lnSpc>
              <a:spcBef>
                <a:spcPts val="13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предметы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433520" indent="-623880">
              <a:lnSpc>
                <a:spcPct val="100000"/>
              </a:lnSpc>
              <a:spcBef>
                <a:spcPts val="13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свойства предметов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433520" indent="-623880">
              <a:lnSpc>
                <a:spcPct val="100000"/>
              </a:lnSpc>
              <a:spcBef>
                <a:spcPts val="13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отношения предмет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5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1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Теоретические законы и эмпирические должны быть связаны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интерпретация абстрактных объектов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сопоставление им множеств эмпирических объе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Научная теория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система принципов, теоретических законов и их эмпирических интерпретаций, раскрывающая связи между явлениями определенной предметной обла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ринципы, законы и интерпретац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выражаю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в виде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высказываний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об объект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Главное отличие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теоретических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высказываний от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эмпирических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наличие ссыл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на абстрактные объек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428760" y="2214360"/>
            <a:ext cx="82296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По логической форм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научная теория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система </a:t>
            </a: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высказываний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о некотором классе абстрактных объектов, их свойствах и отношения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2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По происхождению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научная теория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научная гипотеза или система научных гипотез, выдержавших  объективную проверк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Научная теория  как система научных высказывани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Логическая зависимость одних высказываний от друг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Иерархичность: деление на более общие и менее общие высказы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Опосредованная связь с фактами через систему интерпретац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428760" y="21427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Отношение теоретического и эмпирического зн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1523880" y="4005360"/>
          <a:ext cx="6096240" cy="14554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Теория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Эмпирический базис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4" name="Rectangle 20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357120" y="21430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Эмпирический базис теории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система фактов, связанных с теоретическими закон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Теоретический закон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выражается при помощи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теоретического высказы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Факты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выражаются в язык теории при помощи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эмпирических высказыва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"Есть одно коренное явление, которое определяет научную мысль и отличает научные результаты и научные заключения ясно и просто от утверждений философии и религии, - это общеобязательность и бесспорность правильно сделанных научных выводов, научных утверждений, понятий, заключений. Научные, логически правильно сделанные действия, имеют такую силу только потому, что наука имеет свое определенное строение и что в ней существует область фактов и обобщений, которые по своей сути не могут быть реально оспариваемы". (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В.И. Вернадский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, с. 4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Верификация 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одтверждение теоретического высказывания при помощи эмпирических высказыв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Фальсификация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опровержение теоретического высказывания при помощи эмпирических высказыва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6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Схема верифика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Т →  Е, Е ╟ 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Схема фальсифика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Т →  Е, не-Е├ не-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Асимметрия между фальсификацией и верификаци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Гипотеза как форма развития научного зн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Научная гипотеза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научное выс-казывание, истинностное значение которого неопределенн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3205080" y="234936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Arial"/>
              </a:rPr>
              <a:t>Гипотез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4499280" y="3789360"/>
            <a:ext cx="432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Структурный элемент</a:t>
            </a:r>
            <a:br>
              <a:rPr sz="3200"/>
            </a:b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научной теори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9"/>
          <p:cNvSpPr/>
          <p:nvPr/>
        </p:nvSpPr>
        <p:spPr>
          <a:xfrm>
            <a:off x="447480" y="3765600"/>
            <a:ext cx="328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Метод развития</a:t>
            </a:r>
            <a:br>
              <a:rPr sz="3200"/>
            </a:b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научного знани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10"/>
          <p:cNvSpPr/>
          <p:nvPr/>
        </p:nvSpPr>
        <p:spPr>
          <a:xfrm flipH="1">
            <a:off x="2484000" y="2924280"/>
            <a:ext cx="1800360" cy="8650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11"/>
          <p:cNvSpPr/>
          <p:nvPr/>
        </p:nvSpPr>
        <p:spPr>
          <a:xfrm>
            <a:off x="4284720" y="2924280"/>
            <a:ext cx="1655640" cy="8650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2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Метод гипотез впервые применен в </a:t>
            </a: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древнегреческой математике – дедук-тивный мысленный эксперимент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Выдвижение гипотезы и вывод из нее дедуктивных следствий с целью проверки правильности первоначальной догад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395280" y="27079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В </a:t>
            </a: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Новое время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метод гипотез применялся в скрытой форме: как часть мысленного эксперимента или индуктивного метода (</a:t>
            </a: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Евклид, Галилей, Ньютон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Роль гипотезы как средства развития науки – в период научной революции конца XIX –начала ХХ ве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Гипотеза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способ объяснения фактов или упорядочения научной теории, подлежащий дальнейшей провер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Гипотеза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 – вероятное научное высказы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Научная гипотеза удовлетворяет условию принципиальной проверяемости (фаль-сифицируемость или верифицируемость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70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2. 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Гипотетико-дедуктивный мет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Гипотетико-дедуктивный метод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метод научного исследования, заклю-чающийся в выдвижении гипотез и проверке этих гипотез путем вывода из них эмпирически проверяемых следств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Факт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это суждение, истинность которого основывается на чувственных восприяти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395280" y="2565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Начальные условия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 – высказывания, связывающие теоретические терми-ны гипотезы с эмпирическим бази-с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Схема гипотетико-дедуктивного мет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Гипотеза&amp;начальные условия → &lt;дедукция&gt; → эмпирические следствия → проверка → подтверждение/опровержение → гипотеза/тео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Modus ponens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и 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modus to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. Теория эфира и эксперимент Майкельсона–Морли. Если есть эфир, то при движении Земли должен возникать эфирный ветер – сопротивление эфирной среды. Эмпирически: скорость распрос</a:t>
            </a:r>
            <a:r>
              <a:rPr b="0" lang="en-US" sz="2400" spc="-1" strike="noStrike">
                <a:solidFill>
                  <a:srgbClr val="660000"/>
                </a:solidFill>
                <a:latin typeface="Georgia"/>
              </a:rPr>
              <a:t>-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транения света, исходящего из некоторого источника, будет зависеть от направления луча: луч, направление которого совпадает с направлением движения Земли будет двигаться с иной скоростью, чем луч направленный перпендикулярно ее движению. Эксперимент не обнаружил разницы в скорости распространения этих двух лучей. Предсказание не подтвердилось –</a:t>
            </a:r>
            <a:r>
              <a:rPr b="0" lang="en-US" sz="2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ложность те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Схема научного исслед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6"/>
          <p:cNvSpPr/>
          <p:nvPr/>
        </p:nvSpPr>
        <p:spPr>
          <a:xfrm>
            <a:off x="3710880" y="1916280"/>
            <a:ext cx="12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Arial"/>
              </a:rPr>
              <a:t>Теор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3206160" y="278136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Arial"/>
              </a:rPr>
              <a:t>Подтвержден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3637440" y="357336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Arial"/>
              </a:rPr>
              <a:t>Гипотез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3132720" y="4437000"/>
            <a:ext cx="25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Arial"/>
              </a:rPr>
              <a:t>Измени гипотез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6445800" y="364500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Arial"/>
              </a:rPr>
              <a:t>Предсказан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11"/>
          <p:cNvSpPr/>
          <p:nvPr/>
        </p:nvSpPr>
        <p:spPr>
          <a:xfrm>
            <a:off x="613440" y="364500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Arial"/>
              </a:rPr>
              <a:t>Наблюден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351240" y="53006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Arial"/>
              </a:rPr>
              <a:t>Опровергнут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3711240" y="609300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Arial"/>
              </a:rPr>
              <a:t>провер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4"/>
          <p:cNvSpPr/>
          <p:nvPr/>
        </p:nvSpPr>
        <p:spPr>
          <a:xfrm flipV="1">
            <a:off x="4356000" y="4797000"/>
            <a:ext cx="0" cy="64764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15"/>
          <p:cNvSpPr/>
          <p:nvPr/>
        </p:nvSpPr>
        <p:spPr>
          <a:xfrm flipV="1">
            <a:off x="4356000" y="5734080"/>
            <a:ext cx="0" cy="5032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16"/>
          <p:cNvSpPr/>
          <p:nvPr/>
        </p:nvSpPr>
        <p:spPr>
          <a:xfrm flipV="1">
            <a:off x="4356000" y="3933360"/>
            <a:ext cx="0" cy="57492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17"/>
          <p:cNvSpPr/>
          <p:nvPr/>
        </p:nvSpPr>
        <p:spPr>
          <a:xfrm flipV="1">
            <a:off x="4356000" y="3213000"/>
            <a:ext cx="0" cy="5032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18"/>
          <p:cNvSpPr/>
          <p:nvPr/>
        </p:nvSpPr>
        <p:spPr>
          <a:xfrm flipV="1">
            <a:off x="4356000" y="2349000"/>
            <a:ext cx="0" cy="57492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19"/>
          <p:cNvSpPr/>
          <p:nvPr/>
        </p:nvSpPr>
        <p:spPr>
          <a:xfrm>
            <a:off x="2700360" y="3860640"/>
            <a:ext cx="936720" cy="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20"/>
          <p:cNvSpPr/>
          <p:nvPr/>
        </p:nvSpPr>
        <p:spPr>
          <a:xfrm>
            <a:off x="5292720" y="3860640"/>
            <a:ext cx="936720" cy="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21"/>
          <p:cNvSpPr/>
          <p:nvPr/>
        </p:nvSpPr>
        <p:spPr>
          <a:xfrm flipH="1">
            <a:off x="5292360" y="4149720"/>
            <a:ext cx="2303640" cy="215892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22"/>
          <p:cNvSpPr/>
          <p:nvPr/>
        </p:nvSpPr>
        <p:spPr>
          <a:xfrm>
            <a:off x="1619280" y="4149720"/>
            <a:ext cx="2016000" cy="2158920"/>
          </a:xfrm>
          <a:prstGeom prst="line">
            <a:avLst/>
          </a:prstGeom>
          <a:ln w="19080">
            <a:solidFill>
              <a:srgbClr val="66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3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3. 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Научные факты и научные теор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Результат наблюдения, измерения или экспе-римента, характеризующийся повторяемостью и связью с научной теорией – фа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529200" algn="just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Теоретическая нагруженность фа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529200" algn="just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Относительность эмпирического базиса те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74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Факт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это мысль о предметах нашего мира, их свойствах или отношениях, которую можно непосредственно проверить при помощи показаний органов чувст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00"/>
                </a:solidFill>
                <a:latin typeface="Georgia"/>
              </a:rPr>
              <a:t>Факт выражается суждением следующей структуры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358920" algn="just">
              <a:lnSpc>
                <a:spcPct val="9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субъект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суждения – единичное понятие о предмете, данном нам в чувственном восприят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358920" algn="just">
              <a:lnSpc>
                <a:spcPct val="9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предикат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суждения – свойство или отношение, наличие которого у предмета может быть установлено при помощи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2781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4000" spc="-1" strike="noStrike">
                <a:solidFill>
                  <a:srgbClr val="660000"/>
                </a:solidFill>
                <a:latin typeface="Georgia"/>
              </a:rPr>
              <a:t>. Данный медный стер</a:t>
            </a:r>
            <a:r>
              <a:rPr b="0" lang="en-US" sz="4000" spc="-1" strike="noStrike">
                <a:solidFill>
                  <a:srgbClr val="660000"/>
                </a:solidFill>
                <a:latin typeface="Georgia"/>
              </a:rPr>
              <a:t>-</a:t>
            </a:r>
            <a:r>
              <a:rPr b="0" lang="ru-RU" sz="4000" spc="-1" strike="noStrike">
                <a:solidFill>
                  <a:srgbClr val="660000"/>
                </a:solidFill>
                <a:latin typeface="Georgia"/>
              </a:rPr>
              <a:t>жень при нагревании расширя</a:t>
            </a:r>
            <a:r>
              <a:rPr b="0" lang="en-US" sz="4000" spc="-1" strike="noStrike">
                <a:solidFill>
                  <a:srgbClr val="660000"/>
                </a:solidFill>
                <a:latin typeface="Georgia"/>
              </a:rPr>
              <a:t>-</a:t>
            </a:r>
            <a:r>
              <a:rPr b="0" lang="ru-RU" sz="4000" spc="-1" strike="noStrike">
                <a:solidFill>
                  <a:srgbClr val="660000"/>
                </a:solidFill>
                <a:latin typeface="Georgia"/>
              </a:rPr>
              <a:t>етс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0000"/>
                </a:solidFill>
                <a:latin typeface="Georgia"/>
              </a:rPr>
              <a:t>Факты могут быть простыми и сложным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П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р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о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с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т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о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й 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ф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а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к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т – это факт, выраженный отдельным единичным суждением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С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л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о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ж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н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ы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й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ф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а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к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т – это факт, выраженный конъюнкцией единичных суждений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3000" spc="-1" strike="noStrike">
                <a:solidFill>
                  <a:srgbClr val="660000"/>
                </a:solidFill>
                <a:latin typeface="Georgia"/>
              </a:rPr>
              <a:t>. "</a:t>
            </a:r>
            <a:r>
              <a:rPr b="0" i="1" lang="ru-RU" sz="3000" spc="-1" strike="noStrike">
                <a:solidFill>
                  <a:srgbClr val="660000"/>
                </a:solidFill>
                <a:latin typeface="Georgia"/>
              </a:rPr>
              <a:t>Эта бумага белая</a:t>
            </a:r>
            <a:r>
              <a:rPr b="0" lang="ru-RU" sz="3000" spc="-1" strike="noStrike">
                <a:solidFill>
                  <a:srgbClr val="660000"/>
                </a:solidFill>
                <a:latin typeface="Georgia"/>
              </a:rPr>
              <a:t>", если обозначить термин "эта бумага" через </a:t>
            </a:r>
            <a:r>
              <a:rPr b="0" i="1" lang="ru-RU" sz="3000" spc="-1" strike="noStrike">
                <a:solidFill>
                  <a:srgbClr val="660000"/>
                </a:solidFill>
                <a:latin typeface="Georgia"/>
              </a:rPr>
              <a:t>а</a:t>
            </a:r>
            <a:r>
              <a:rPr b="0" lang="ru-RU" sz="3000" spc="-1" strike="noStrike">
                <a:solidFill>
                  <a:srgbClr val="660000"/>
                </a:solidFill>
                <a:latin typeface="Georgia"/>
              </a:rPr>
              <a:t>, а предикат "</a:t>
            </a:r>
            <a:r>
              <a:rPr b="0" i="1" lang="ru-RU" sz="3000" spc="-1" strike="noStrike">
                <a:solidFill>
                  <a:srgbClr val="660000"/>
                </a:solidFill>
                <a:latin typeface="Georgia"/>
              </a:rPr>
              <a:t>быть белым</a:t>
            </a:r>
            <a:r>
              <a:rPr b="0" lang="ru-RU" sz="3000" spc="-1" strike="noStrike">
                <a:solidFill>
                  <a:srgbClr val="660000"/>
                </a:solidFill>
                <a:latin typeface="Georgia"/>
              </a:rPr>
              <a:t>" – через </a:t>
            </a:r>
            <a:r>
              <a:rPr b="0" i="1" lang="ru-RU" sz="3000" spc="-1" strike="noStrike">
                <a:solidFill>
                  <a:srgbClr val="660000"/>
                </a:solidFill>
                <a:latin typeface="Georgia"/>
              </a:rPr>
              <a:t>Р</a:t>
            </a:r>
            <a:r>
              <a:rPr b="0" lang="ru-RU" sz="3000" spc="-1" strike="noStrike">
                <a:solidFill>
                  <a:srgbClr val="660000"/>
                </a:solidFill>
                <a:latin typeface="Georgia"/>
              </a:rPr>
              <a:t>, мы запишем в следующей форме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660000"/>
                </a:solidFill>
                <a:latin typeface="Georgia"/>
              </a:rPr>
              <a:t>Р(а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00"/>
                </a:solidFill>
                <a:latin typeface="Georgia"/>
              </a:rPr>
              <a:t>Факт «</a:t>
            </a:r>
            <a:r>
              <a:rPr b="0" i="1" lang="ru-RU" sz="3000" spc="-1" strike="noStrike">
                <a:solidFill>
                  <a:srgbClr val="660000"/>
                </a:solidFill>
                <a:latin typeface="Georgia"/>
              </a:rPr>
              <a:t>Эта бумага белая</a:t>
            </a:r>
            <a:r>
              <a:rPr b="0" lang="ru-RU" sz="3000" spc="-1" strike="noStrike">
                <a:solidFill>
                  <a:srgbClr val="660000"/>
                </a:solidFill>
                <a:latin typeface="Georgia"/>
              </a:rPr>
              <a:t>» является простым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00"/>
                </a:solidFill>
                <a:latin typeface="Georgia"/>
              </a:rPr>
              <a:t>Сложный факт "</a:t>
            </a:r>
            <a:r>
              <a:rPr b="0" i="1" lang="ru-RU" sz="4000" spc="-1" strike="noStrike">
                <a:solidFill>
                  <a:srgbClr val="660000"/>
                </a:solidFill>
                <a:latin typeface="Georgia"/>
              </a:rPr>
              <a:t>Эта бумага белая и мягкая</a:t>
            </a:r>
            <a:r>
              <a:rPr b="0" lang="ru-RU" sz="4000" spc="-1" strike="noStrike">
                <a:solidFill>
                  <a:srgbClr val="660000"/>
                </a:solidFill>
                <a:latin typeface="Georgia"/>
              </a:rPr>
              <a:t>"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00"/>
                </a:solidFill>
                <a:latin typeface="Georgia"/>
              </a:rPr>
              <a:t>Р(а)</a:t>
            </a:r>
            <a:r>
              <a:rPr b="0" lang="ru-RU" sz="4000" spc="-1" strike="noStrike">
                <a:solidFill>
                  <a:srgbClr val="660000"/>
                </a:solidFill>
                <a:latin typeface="Symbol"/>
                <a:ea typeface="Symbol"/>
              </a:rPr>
              <a:t></a:t>
            </a:r>
            <a:r>
              <a:rPr b="0" i="1" lang="ru-RU" sz="4000" spc="-1" strike="noStrike">
                <a:solidFill>
                  <a:srgbClr val="660000"/>
                </a:solidFill>
                <a:latin typeface="Georgia"/>
              </a:rPr>
              <a:t>Q(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Лекция 4. Структура научного знания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1.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Научное знание как сложная развивающаяся система. Эмпирический и теоретический уровни зна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2.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3.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 Теория и ее функ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859280" y="189000"/>
            <a:ext cx="392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logo_ratio"/>
          <p:cNvPicPr/>
          <p:nvPr/>
        </p:nvPicPr>
        <p:blipFill>
          <a:blip r:embed="rId1"/>
          <a:stretch/>
        </p:blipFill>
        <p:spPr>
          <a:xfrm>
            <a:off x="179280" y="14292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logo univ"/>
          <p:cNvPicPr/>
          <p:nvPr/>
        </p:nvPicPr>
        <p:blipFill>
          <a:blip r:embed="rId2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Научный фак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00"/>
                </a:solidFill>
                <a:latin typeface="Georgia"/>
              </a:rPr>
              <a:t>Научный факт получается в результате научной процедур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660000"/>
                </a:solidFill>
                <a:latin typeface="Georgia"/>
              </a:rPr>
              <a:t>Научная процедура</a:t>
            </a:r>
            <a:r>
              <a:rPr b="0" lang="ru-RU" sz="3000" spc="-1" strike="noStrike">
                <a:solidFill>
                  <a:srgbClr val="660000"/>
                </a:solidFill>
                <a:latin typeface="Georgia"/>
              </a:rPr>
              <a:t> – методы чувственного познания, примененные научным образом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Признак </a:t>
            </a: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научности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 факта:</a:t>
            </a:r>
            <a:r>
              <a:rPr b="0" lang="ru-RU" sz="3400" spc="-1" strike="noStrike">
                <a:solidFill>
                  <a:srgbClr val="660000"/>
                </a:solidFill>
                <a:latin typeface="Georgi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358920" algn="just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повторяемость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: получение данного действия всякий раз, как имеются данные усло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358920" algn="just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связь с научной </a:t>
            </a: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теори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Научный факт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единичное суждение, выражающее регулярно повторяющийся результат наблюдения, измерения или эксперимента и связанное с некоторой научной теори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Способы получения фактов в нау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555560" y="3141720"/>
            <a:ext cx="63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Arial"/>
              </a:rPr>
              <a:t>Метод чувственного познани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402120" y="4508640"/>
            <a:ext cx="27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Arial"/>
              </a:rPr>
              <a:t>наблюдени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281400" y="4508640"/>
            <a:ext cx="23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Arial"/>
              </a:rPr>
              <a:t>измерени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021720" y="4508640"/>
            <a:ext cx="277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Arial"/>
              </a:rPr>
              <a:t>эксперимен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0"/>
          <p:cNvSpPr/>
          <p:nvPr/>
        </p:nvSpPr>
        <p:spPr>
          <a:xfrm flipH="1">
            <a:off x="1907640" y="3645000"/>
            <a:ext cx="2519640" cy="100800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4427640" y="3645000"/>
            <a:ext cx="0" cy="100800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4427640" y="3645000"/>
            <a:ext cx="2592360" cy="100800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1. 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Наблю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Научное наблюдение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это целенаправленное и организованное восприятие предметов опыт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2781720" y="2421000"/>
            <a:ext cx="340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00"/>
                </a:solidFill>
                <a:latin typeface="Arial"/>
              </a:rPr>
              <a:t>Наблюдение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843840" y="4076640"/>
            <a:ext cx="289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00"/>
                </a:solidFill>
                <a:latin typeface="Arial"/>
              </a:rPr>
              <a:t>Ощущение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4950720" y="4076640"/>
            <a:ext cx="37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00"/>
                </a:solidFill>
                <a:latin typeface="Arial"/>
              </a:rPr>
              <a:t>Интроспекция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9"/>
          <p:cNvSpPr/>
          <p:nvPr/>
        </p:nvSpPr>
        <p:spPr>
          <a:xfrm flipH="1">
            <a:off x="2484000" y="3068640"/>
            <a:ext cx="1871640" cy="115236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0"/>
          <p:cNvSpPr/>
          <p:nvPr/>
        </p:nvSpPr>
        <p:spPr>
          <a:xfrm>
            <a:off x="4356000" y="3068640"/>
            <a:ext cx="1800360" cy="122400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68360" y="249228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Ощущение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воспроизведение субъектом отдельных свойств, сторон предметов или процессов внешнего ми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Интроспекция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восприятие переживаний, чувств, психических состояний самого субъе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00"/>
                </a:solidFill>
                <a:latin typeface="Georgia"/>
              </a:rPr>
              <a:t>Наблюдател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00"/>
                </a:solidFill>
                <a:latin typeface="Georgia"/>
              </a:rPr>
              <a:t>сознательно ищет факты</a:t>
            </a:r>
            <a:r>
              <a:rPr b="1" lang="ru-RU" sz="4000" spc="-1" strike="noStrike">
                <a:solidFill>
                  <a:srgbClr val="660000"/>
                </a:solidFill>
                <a:latin typeface="Georg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68360" y="200016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00"/>
                </a:solidFill>
                <a:latin typeface="Georgia"/>
              </a:rPr>
              <a:t>Наблюдател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00"/>
                </a:solidFill>
                <a:latin typeface="Georgia"/>
              </a:rPr>
              <a:t>руководствуется</a:t>
            </a:r>
            <a:r>
              <a:rPr b="1" lang="ru-RU" sz="4000" spc="-1" strike="noStrike">
                <a:solidFill>
                  <a:srgbClr val="66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7920" algn="just">
              <a:lnSpc>
                <a:spcPct val="100000"/>
              </a:lnSpc>
              <a:spcBef>
                <a:spcPts val="1349"/>
              </a:spcBef>
              <a:buClr>
                <a:srgbClr val="66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идеей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07920" algn="just">
              <a:lnSpc>
                <a:spcPct val="100000"/>
              </a:lnSpc>
              <a:spcBef>
                <a:spcPts val="1349"/>
              </a:spcBef>
              <a:buClr>
                <a:srgbClr val="66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гипотез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07920" algn="just">
              <a:lnSpc>
                <a:spcPct val="100000"/>
              </a:lnSpc>
              <a:spcBef>
                <a:spcPts val="1349"/>
              </a:spcBef>
              <a:buClr>
                <a:srgbClr val="66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прежним опыт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00"/>
                </a:solidFill>
                <a:latin typeface="Georgia"/>
              </a:rPr>
              <a:t>Ученый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541440" algn="just">
              <a:lnSpc>
                <a:spcPct val="80000"/>
              </a:lnSpc>
              <a:spcBef>
                <a:spcPts val="134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сознательно отбирает те факты, которые могут либо подтвердить, либо опровергнуть его иде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541440" algn="just">
              <a:lnSpc>
                <a:spcPct val="80000"/>
              </a:lnSpc>
              <a:spcBef>
                <a:spcPts val="134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интерпретирует факты в свете некоторой теор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Литература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00"/>
                </a:solidFill>
                <a:latin typeface="Georgia"/>
              </a:rPr>
              <a:t>Степин В.С</a:t>
            </a: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. Философия науки. Общие проблемы: учебник для аспирантов и соискателей ученой степени кандидата наук. – М.: Гардарики, 2006. Гл, 2. С. 156-1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00"/>
                </a:solidFill>
                <a:latin typeface="Georgia"/>
              </a:rPr>
              <a:t>Вернадский В.И</a:t>
            </a: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. Научная мысль как планетное явление // Вернадский В.И. О науке. Т. 1. Научное знание. Научное творчество. Научная мысль. - М.: Феникс, 1997.С.  339-388, 400-42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Структура  наблюд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541440" algn="just">
              <a:lnSpc>
                <a:spcPct val="80000"/>
              </a:lnSpc>
              <a:spcBef>
                <a:spcPts val="9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наблюдаемый объек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541440" algn="just">
              <a:lnSpc>
                <a:spcPct val="80000"/>
              </a:lnSpc>
              <a:spcBef>
                <a:spcPts val="9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воспринимающий субъек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541440" algn="just">
              <a:lnSpc>
                <a:spcPct val="80000"/>
              </a:lnSpc>
              <a:spcBef>
                <a:spcPts val="9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конкретные условия места и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541440" algn="just">
              <a:lnSpc>
                <a:spcPct val="80000"/>
              </a:lnSpc>
              <a:spcBef>
                <a:spcPts val="9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специальные средства наблюдения (микроскопы, телескопы, фото- и телеаппараты и т. п.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541440" algn="just">
              <a:lnSpc>
                <a:spcPct val="80000"/>
              </a:lnSpc>
              <a:spcBef>
                <a:spcPts val="9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концептуальные средства, т. е. понятия и теории, с помощью которых организуются и в особенности интерпретируются научные наблю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00"/>
                </a:solidFill>
                <a:latin typeface="Georgia"/>
              </a:rPr>
              <a:t>Научное</a:t>
            </a:r>
            <a:r>
              <a:rPr b="1" lang="ru-RU" sz="4000" spc="-1" strike="noStrike">
                <a:solidFill>
                  <a:srgbClr val="660000"/>
                </a:solidFill>
                <a:latin typeface="Georgia"/>
              </a:rPr>
              <a:t> наблюдение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00"/>
                </a:solidFill>
                <a:latin typeface="Georgia"/>
              </a:rPr>
              <a:t>интерсубъективно</a:t>
            </a:r>
            <a:r>
              <a:rPr b="1" i="1" lang="ru-RU" sz="4000" spc="-1" strike="noStrike">
                <a:solidFill>
                  <a:srgbClr val="660000"/>
                </a:solidFill>
                <a:latin typeface="Georg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Интерсубъективность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независимость результата наблюден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от индивидуальных особенностей наблюдате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500040" y="2285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Гарант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интерсубъективности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00"/>
                </a:solidFill>
                <a:latin typeface="Georgia"/>
              </a:rPr>
              <a:t>повторяемость</a:t>
            </a:r>
            <a:r>
              <a:rPr b="1" lang="ru-RU" sz="4800" spc="-1" strike="noStrike">
                <a:solidFill>
                  <a:srgbClr val="660000"/>
                </a:solidFill>
                <a:latin typeface="Georgi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28760" y="1928520"/>
            <a:ext cx="822960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Повторяемость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при данных условиях и в определенных пределах точности измерен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возможность получ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того же самого результа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любым субъектом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обладающим достаточными для данного наблюдения навыками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68360" y="200016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Ограничения наблюде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541440" algn="just">
              <a:lnSpc>
                <a:spcPct val="9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иллюзии восприятия – палка, опущенная в воду, кажется сломанной; параллельно расположенные рельсы вдали кажутся сходящими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541440" algn="just">
              <a:lnSpc>
                <a:spcPct val="9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редвзятые склонности или представления, ошибочные исходные установ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овышение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степени объективности 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наблюдени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54144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результаты должны получены и зафиксированы другими наблюдателям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54144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результаты анализируются и корректируются в свете существующих теоретичес-ких представл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00"/>
                </a:solidFill>
                <a:latin typeface="Georgia"/>
              </a:rPr>
              <a:t>В науке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00"/>
                </a:solidFill>
                <a:latin typeface="Georgia"/>
              </a:rPr>
              <a:t>наблюдение проводится только в свете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00"/>
                </a:solidFill>
                <a:latin typeface="Georgia"/>
              </a:rPr>
              <a:t>теори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История науки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некоторые факты или данные длительное время оставались случайными открытиями, пока не была создана теор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3000" spc="-1" strike="noStrike">
                <a:solidFill>
                  <a:srgbClr val="660000"/>
                </a:solidFill>
                <a:latin typeface="Georgia"/>
              </a:rPr>
              <a:t>. Древние греки знали свойства янтаря, потертого о сукно, притягивать легчайшие тела (электризация трением) или же магнитного железняка притягивать металлические предметы (естественный магнетизм). До создания теории электро-магнитных явлений эти факты оставались любопытными курьезами природы. В свете теории, они стали той исходной базой, которая послужила фундаментом современ-ной техник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Литература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1049"/>
              </a:spcBef>
              <a:buClr>
                <a:srgbClr val="660000"/>
              </a:buClr>
              <a:buSzPct val="70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00"/>
                </a:solidFill>
                <a:latin typeface="Georgia"/>
              </a:rPr>
              <a:t>Микешина Л.А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. Философия науки. – М.: Прогресс-Традиция, 2005. - С. 258-33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1049"/>
              </a:spcBef>
              <a:buClr>
                <a:srgbClr val="660000"/>
              </a:buClr>
              <a:buSzPct val="70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00"/>
                </a:solidFill>
                <a:latin typeface="Georgia"/>
              </a:rPr>
              <a:t>Никифоров А.Л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. Философия науки: История и методология. - М.: Дом интеллектуальной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 книги, 1998. Часть II. Гл.II, III. С. 144-17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975"/>
              </a:spcBef>
              <a:buClr>
                <a:srgbClr val="660000"/>
              </a:buClr>
              <a:buSzPct val="70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0000"/>
                </a:solidFill>
                <a:latin typeface="Georgia"/>
              </a:rPr>
              <a:t>Рузавин Г.И</a:t>
            </a:r>
            <a:r>
              <a:rPr b="1" lang="ru-RU" sz="2600" spc="-1" strike="noStrike">
                <a:solidFill>
                  <a:srgbClr val="660000"/>
                </a:solidFill>
                <a:latin typeface="Georgia"/>
              </a:rPr>
              <a:t>. Философия науки. М.: ЮНИТИ-ДАНА, 2005. С. 85-128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Виды наблю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По способу восприятия объекта наблюд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2988360" y="3716280"/>
            <a:ext cx="28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Arial"/>
              </a:rPr>
              <a:t>наблюдени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5148720" y="501336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Arial"/>
              </a:rPr>
              <a:t>косвенны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468360" y="5013360"/>
            <a:ext cx="421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Arial"/>
              </a:rPr>
              <a:t>непосредственны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9"/>
          <p:cNvSpPr/>
          <p:nvPr/>
        </p:nvSpPr>
        <p:spPr>
          <a:xfrm flipH="1">
            <a:off x="2771280" y="4292640"/>
            <a:ext cx="1584360" cy="79200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0"/>
          <p:cNvSpPr/>
          <p:nvPr/>
        </p:nvSpPr>
        <p:spPr>
          <a:xfrm>
            <a:off x="4356000" y="4292640"/>
            <a:ext cx="1511280" cy="79200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Непосредственное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 наблюдение ос-новано на восприятии субъектом самого наблюдаемого объек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. Наблюдение биологом жизни муравейника или поведение обезьян в рамках одной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Косвенное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наблюд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7160" indent="-508680" algn="just">
              <a:lnSpc>
                <a:spcPct val="9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опирается на предположение об опре-деленной закономерной связи между свой-ствами непосредственно наблюдаемых объектов и наблюдаемыми проявлениями этих свойст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7160" indent="-508680" algn="just">
              <a:lnSpc>
                <a:spcPct val="9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содержит логический вывод о свойствах ненаблюдаемого объекта на основе наблю-даемого эффекта его 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. Физик, изучая поведение элементарных частиц, непосредственно наблюдает лишь их треки в камере Вильсона, которые представляют собой результат взаимодействия элементарной частицы с молекулами пара, запол-няющего камеру. По характеру треков физик судит о поведении и свойствах частиц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Функции наблюдения в научном исследовани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1560" indent="-519480" algn="just">
              <a:lnSpc>
                <a:spcPct val="9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получение эмпирической информа-ции, необходимой для постановки новых проблем и выдвижения гипо-тез – </a:t>
            </a: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эвристическая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фун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1560" indent="-519480" algn="just">
              <a:lnSpc>
                <a:spcPct val="9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участие в проверке гипотез и теорий – </a:t>
            </a: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проверочная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фун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00"/>
                </a:solidFill>
                <a:latin typeface="Georgia"/>
              </a:rPr>
              <a:t>2. </a:t>
            </a:r>
            <a:r>
              <a:rPr b="1" lang="ru-RU" sz="4000" spc="-1" strike="noStrike">
                <a:solidFill>
                  <a:srgbClr val="660000"/>
                </a:solidFill>
                <a:latin typeface="Georgia"/>
              </a:rPr>
              <a:t>Измер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00"/>
                </a:solidFill>
                <a:latin typeface="Georgia"/>
              </a:rPr>
              <a:t>Измерение</a:t>
            </a:r>
            <a:r>
              <a:rPr b="0" lang="ru-RU" sz="4000" spc="-1" strike="noStrike">
                <a:solidFill>
                  <a:srgbClr val="660000"/>
                </a:solidFill>
                <a:latin typeface="Georgia"/>
              </a:rPr>
              <a:t> – процесс представ-ления свойств реальных объек-тов в виде числовой величин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Величина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 – характеристика объекта, которая пожжет быть присуща объекту в большей или меньшей степе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Числовая величина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 – величина, ко-торая может быть выражена числ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1764720" y="2637000"/>
            <a:ext cx="51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Arial"/>
              </a:rPr>
              <a:t>Результат наблюдени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3143160" y="4286160"/>
            <a:ext cx="235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сравните-льное поняти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179280" y="4221000"/>
            <a:ext cx="289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качественное поняти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0"/>
          <p:cNvSpPr/>
          <p:nvPr/>
        </p:nvSpPr>
        <p:spPr>
          <a:xfrm flipH="1">
            <a:off x="2484000" y="3213000"/>
            <a:ext cx="1871640" cy="100800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4356000" y="3213000"/>
            <a:ext cx="46080" cy="114480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1"/>
          <p:cNvSpPr/>
          <p:nvPr/>
        </p:nvSpPr>
        <p:spPr>
          <a:xfrm>
            <a:off x="4357800" y="3214800"/>
            <a:ext cx="2714400" cy="10000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5802480" y="4452840"/>
            <a:ext cx="289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количествен-ное поняти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Качественные понятия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такие, как «теплый», «зеленый», «большой», – обозначают некоторые классы предметов и, приписывая предмету свойство, выражаемое качественным понятием, мы тем самым включаем этот предмет в определенный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Качественные понятия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основа класси-фикации объек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Сравнительные понятия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 выражают сравнительную степень интенсив-ности свойст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Задача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: установить некоторые соот-ношения между классами однород-ных предметов с помощью таких понятий, таких, как «больше», «теплее», «легче» и т.п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956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1.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1" lang="ru-RU" sz="2200" spc="-1" strike="noStrike">
                <a:solidFill>
                  <a:srgbClr val="660000"/>
                </a:solidFill>
                <a:latin typeface="Georgia"/>
              </a:rPr>
              <a:t>Научное знание как развивающаяся система. Эмпирический и теоретический уровни познания</a:t>
            </a:r>
            <a:endParaRPr b="0" lang="en-US" sz="2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9285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00"/>
                </a:solidFill>
                <a:latin typeface="Georgia"/>
              </a:rPr>
              <a:t>Теория научного познани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00"/>
                </a:solidFill>
                <a:latin typeface="Georgia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00"/>
                </a:solidFill>
                <a:latin typeface="Georgia"/>
              </a:rPr>
              <a:t>Эпистемология нау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2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00"/>
                </a:solidFill>
                <a:latin typeface="Georgia"/>
              </a:rPr>
              <a:t>Сравнительные понятия</a:t>
            </a:r>
            <a:r>
              <a:rPr b="0" lang="ru-RU" sz="4000" spc="-1" strike="noStrike">
                <a:solidFill>
                  <a:srgbClr val="660000"/>
                </a:solidFill>
                <a:latin typeface="Georgia"/>
              </a:rPr>
              <a:t> созда-ют последовательность предме-тов исследуемой области, упо-рядочивают в определенную по-следователь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. С помощью понятий «тяжелее», «легче», «равный по весу» мы можем все предметы расположить в последовательность классов, таких, что в один класс попадут предметы, равные по весу, предметы каждого предшеству-ющего класса будут легче предметов последующего класса и предметы последующего – тяжелее предметов предшествующе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00"/>
                </a:solidFill>
                <a:latin typeface="Georgia"/>
              </a:rPr>
              <a:t>Количественные понятия</a:t>
            </a:r>
            <a:r>
              <a:rPr b="0" lang="ru-RU" sz="4000" spc="-1" strike="noStrike">
                <a:solidFill>
                  <a:srgbClr val="660000"/>
                </a:solidFill>
                <a:latin typeface="Georgia"/>
              </a:rPr>
              <a:t> выра-жают степень интенсивности некоторого свойства в виде чис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. Измерение твердости минералов: один минерал считается более твердым, чем другой, если он может оставить царапину на этом втором минерале. Все минералы располагаются в последовательность, в которой каждый следующий является более твердым, чем предшествующий. Алмазу – самому твердому минералу – приписано число 10; остальным – тем меньшее число, чем дальше отстоит минерал от алмаза в данной последова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Основное уравнение изме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Пусть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Q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обозначает некоторую степень измеряемого свойства,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U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единицу измерения, а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q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числовое значение соответствующей величины. Тогда результат измерения можно выразить следующим образо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Q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= </a:t>
            </a: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q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3. 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Экспери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Эксперимент обеспечивает возможность </a:t>
            </a: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активного воздействия на изучаемые явления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53568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епосредственное воздействи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53568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изменение условий, в которых происходит это явлени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53568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тесная связь эксперимента с теори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Галил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систематическое применение экспери-мента в нау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. С помощью опыта Галилей опроверг утверждение Аристотеля о том, что скорость падающего тела пропорциональна его весу. Сбросив с высоты в 60 м пушечное ядро массой в 80 кг и мушкетную пулю с массой около 200 г, он убедился, что оба тела достигли поверхности Земли одновремен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Структура эксперимент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539640" algn="just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Структура наблю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539640" algn="just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Средства воздействия на изучаемый объек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Виды эксперимен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А. По цели экспериме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2987280" y="3860640"/>
            <a:ext cx="26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Эксперимен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5364000" y="5229360"/>
            <a:ext cx="22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Поисково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755640" y="522936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Проверочны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9"/>
          <p:cNvSpPr/>
          <p:nvPr/>
        </p:nvSpPr>
        <p:spPr>
          <a:xfrm flipH="1">
            <a:off x="2555640" y="4508640"/>
            <a:ext cx="1655640" cy="8650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"/>
          <p:cNvSpPr/>
          <p:nvPr/>
        </p:nvSpPr>
        <p:spPr>
          <a:xfrm>
            <a:off x="4211640" y="4508640"/>
            <a:ext cx="1655640" cy="8650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95280" y="227628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Проверочный эксперимент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 осущест-вляет эмпирическую проверку гипо-тезы или тео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. Эксперимент Галилея по изучению законов падения т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956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00"/>
                </a:solidFill>
                <a:latin typeface="Georgia"/>
              </a:rPr>
              <a:t>1.</a:t>
            </a:r>
            <a:r>
              <a:rPr b="0" lang="en-US" sz="32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1" lang="en-US" sz="2200" spc="-1" strike="noStrike">
                <a:solidFill>
                  <a:srgbClr val="660000"/>
                </a:solidFill>
                <a:latin typeface="Georgia"/>
              </a:rPr>
              <a:t>Научное знание как развивающаяся система. Эмпирический и теоретический уровни познания</a:t>
            </a:r>
            <a:endParaRPr b="0" lang="en-US" sz="2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4" name="Picture 5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1116000" y="2214720"/>
            <a:ext cx="689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00"/>
                </a:solidFill>
                <a:latin typeface="Arial"/>
              </a:rPr>
              <a:t>Основные познавательные способност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146960" y="371484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00"/>
                </a:solidFill>
                <a:latin typeface="Arial"/>
              </a:rPr>
              <a:t>чувств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6504480" y="3786120"/>
            <a:ext cx="12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00"/>
                </a:solidFill>
                <a:latin typeface="Arial"/>
              </a:rPr>
              <a:t>разу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0"/>
          <p:cNvSpPr/>
          <p:nvPr/>
        </p:nvSpPr>
        <p:spPr>
          <a:xfrm flipH="1">
            <a:off x="1571760" y="3000240"/>
            <a:ext cx="2736720" cy="86544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4357800" y="3000240"/>
            <a:ext cx="2735280" cy="86544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en-US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95280" y="2707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Поисковый эксперимент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 собирает необходимую эмпирическую инфор-мацию для построения или уточ-нения некоторой гипотез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Б. По характеру исследуемого объек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53964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физическ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53964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химическ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53964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биологическ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53964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психологически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53964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социальные и др. эксперим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В. По характеру объекта изуче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9760" indent="-523440" algn="just">
              <a:lnSpc>
                <a:spcPct val="8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прямой эксперимент, если объект – реально существующий предмет или проце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9760" indent="-523440" algn="just">
              <a:lnSpc>
                <a:spcPct val="8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модельный эксперимент, если вместо самого предмета используется некоторая его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Вычислительный эксперимент – разно-видность модельного эксперимен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</a:t>
            </a:r>
            <a:r>
              <a:rPr b="0" i="1" lang="en-US" sz="1800" spc="-1" strike="noStrike">
                <a:solidFill>
                  <a:srgbClr val="660000"/>
                </a:solidFill>
                <a:latin typeface="Georgia"/>
              </a:rPr>
              <a:t>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395280" y="24206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Г. По методу и результатам иссле-довани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539640" algn="just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качестве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539640" algn="just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количестве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Планирование и построение экспе-римен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1.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Формулировка проблемы, которая требует экспериментального разрешения: эмпирическая проверка  гипотезы или теории, уточнение или построение новой гипотез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2. Выделение факторов, которые оказывают существенное влияние на эксперимент, и факторов, которые можно не принимать во вним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. Галилей в своих экспериментах по изучению законов свободного падения тел не учитывал влияние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сопротивления воздуха, неоднородность поля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3.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Обоснование осуществимости эксперимента. Объяснение функци-онирование будущей эксперимен-тальной установки с помощью уже известной и хорошо подтвержденной тео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4.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Контроль эксперимента. Органи-зация контрольной группы. В  качестве контрольной группы или системы может служить сам исследуемый объект. При исследовании биологических и соци-альных явлений чаще всего в качестве контрольной системы выбирается отдель-ная совокупность или система индивиду-ум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395280" y="2491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5.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Интерпретация результатов эксперимента, т.е. установление связи с существующей или новой теори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Функции эксперимента в научном исследован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опытная проверка гипотез и теор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формирование новых гипотез и теоретических представл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Органы чувств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>
              <a:lnSpc>
                <a:spcPct val="80000"/>
              </a:lnSpc>
              <a:spcBef>
                <a:spcPts val="1349"/>
              </a:spcBef>
              <a:buClr>
                <a:srgbClr val="9999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обеспечивают непосредственный контакт с окружающим миром 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>
              <a:lnSpc>
                <a:spcPct val="80000"/>
              </a:lnSpc>
              <a:spcBef>
                <a:spcPts val="1349"/>
              </a:spcBef>
              <a:buClr>
                <a:srgbClr val="9999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дают материал для чувственных образ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5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ое знание как развивающаяся систем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ий и теоретический уровни познан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956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3.</a:t>
            </a:r>
            <a:r>
              <a:rPr b="1" lang="ru-RU" sz="2600" spc="-1" strike="noStrike">
                <a:solidFill>
                  <a:srgbClr val="660000"/>
                </a:solidFill>
                <a:latin typeface="Georgia"/>
              </a:rPr>
              <a:t> Теоретическое знание и его структура. Теория и ее функции</a:t>
            </a:r>
            <a:endParaRPr b="0" lang="en-US" sz="2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Объективность научного знан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порожда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универсализ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5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Знан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универсально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относительно какой-либо области объектов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когда входящие в него суждения претендуют на истинность для </a:t>
            </a: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любого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объекта этой област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Универсальность научного знан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обеспечиваетс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теория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Научная теория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основная единица анализа научного зна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Научная теория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форма организации научного знания, дающая целостное представление о закономерностях и существенных связях определенной области объе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Научная теория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высшая форма организации научного зн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395280" y="2781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Теор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появляется на зрелой стадии развития научной дисципли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Тео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00"/>
                </a:solidFill>
                <a:latin typeface="Georgia"/>
              </a:rPr>
              <a:t>описательная</a:t>
            </a:r>
            <a:r>
              <a:rPr b="1" i="1" lang="ru-RU" sz="28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1" i="1" lang="ru-RU" sz="28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1" i="1" lang="ru-RU" sz="2800" spc="-1" strike="noStrike">
                <a:solidFill>
                  <a:srgbClr val="660000"/>
                </a:solidFill>
                <a:latin typeface="Georgia"/>
              </a:rPr>
              <a:t> объяснитель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Прямая со стрелкой 6"/>
          <p:cNvCxnSpPr/>
          <p:nvPr/>
        </p:nvCxnSpPr>
        <p:spPr>
          <a:xfrm flipH="1">
            <a:off x="1856520" y="2570760"/>
            <a:ext cx="264420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6" name="Прямая со стрелкой 8"/>
          <p:cNvCxnSpPr/>
          <p:nvPr/>
        </p:nvCxnSpPr>
        <p:spPr>
          <a:xfrm>
            <a:off x="4500360" y="2571480"/>
            <a:ext cx="214380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00"/>
                </a:solidFill>
                <a:latin typeface="Georgia"/>
              </a:rPr>
              <a:t>описательная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 теория – систематизация   исследуемых объектов, их свойств и отнош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0000"/>
                </a:solidFill>
                <a:latin typeface="Times New Roman"/>
              </a:rPr>
              <a:t>Карл Линней </a:t>
            </a:r>
            <a:r>
              <a:rPr b="1" lang="en-US" sz="2400" spc="-1" strike="noStrike">
                <a:solidFill>
                  <a:srgbClr val="860000"/>
                </a:solidFill>
                <a:latin typeface="Times New Roman"/>
              </a:rPr>
              <a:t>“Systema Naturae” (1735)</a:t>
            </a:r>
            <a:r>
              <a:rPr b="1" lang="ru-RU" sz="2400" spc="-1" strike="noStrike">
                <a:solidFill>
                  <a:srgbClr val="86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0000"/>
                </a:solidFill>
                <a:latin typeface="Times New Roman"/>
              </a:rPr>
              <a:t>построение естественной системы природы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0000"/>
                </a:solidFill>
                <a:latin typeface="Times New Roman"/>
              </a:rPr>
              <a:t>деление природного мира на три</a:t>
            </a:r>
            <a:r>
              <a:rPr b="1" lang="en-US" sz="2400" spc="-1" strike="noStrike">
                <a:solidFill>
                  <a:srgbClr val="86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60000"/>
                </a:solidFill>
                <a:latin typeface="Times New Roman"/>
              </a:rPr>
              <a:t>царств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860000"/>
                </a:solidFill>
                <a:latin typeface="Times New Roman"/>
              </a:rPr>
              <a:t>минерально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0000"/>
                </a:solidFill>
                <a:latin typeface="Times New Roman"/>
              </a:rPr>
              <a:t>растительно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0000"/>
                </a:solidFill>
                <a:latin typeface="Times New Roman"/>
              </a:rPr>
              <a:t>животно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0000"/>
                </a:solidFill>
                <a:latin typeface="Times New Roman"/>
              </a:rPr>
              <a:t>выделение четырех уровней (рангов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860000"/>
                </a:solidFill>
                <a:latin typeface="Times New Roman"/>
              </a:rPr>
              <a:t>класс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0000"/>
                </a:solidFill>
                <a:latin typeface="Times New Roman"/>
              </a:rPr>
              <a:t>отря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0000"/>
                </a:solidFill>
                <a:latin typeface="Times New Roman"/>
              </a:rPr>
              <a:t>род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0000"/>
                </a:solidFill>
                <a:latin typeface="Times New Roman"/>
              </a:rPr>
              <a:t>ви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660000"/>
                </a:solidFill>
                <a:latin typeface="Georgia"/>
              </a:rPr>
              <a:t>Разум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660000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3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660000"/>
                </a:solidFill>
                <a:latin typeface="Georgia"/>
              </a:rPr>
              <a:t>вскрывает внутреннее строение вещей,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3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660000"/>
                </a:solidFill>
                <a:latin typeface="Georgia"/>
              </a:rPr>
              <a:t>выявляет существенные свойства вещей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3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660000"/>
                </a:solidFill>
                <a:latin typeface="Georgia"/>
              </a:rPr>
              <a:t>устанавливает причинные связи событий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8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ое знание как развивающаяся систем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ий и теоретический уровни познан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e0000"/>
                </a:solidFill>
                <a:latin typeface="Times New Roman"/>
              </a:rPr>
              <a:t>Значение описательной теории Линне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e0000"/>
                </a:solidFill>
                <a:latin typeface="Times New Roman"/>
              </a:rPr>
              <a:t>разрабатывает основные положения научной систематики,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e0000"/>
                </a:solidFill>
                <a:latin typeface="Times New Roman"/>
              </a:rPr>
              <a:t>строит естественную классификацию растений, которая «сама по себе указывает даже на пропущенные растения» (</a:t>
            </a:r>
            <a:r>
              <a:rPr b="1" lang="en-US" sz="3200" spc="-1" strike="noStrike">
                <a:solidFill>
                  <a:srgbClr val="6e0000"/>
                </a:solidFill>
                <a:latin typeface="Times New Roman"/>
              </a:rPr>
              <a:t>SN)</a:t>
            </a:r>
            <a:r>
              <a:rPr b="1" lang="ru-RU" sz="3200" spc="-1" strike="noStrike">
                <a:solidFill>
                  <a:srgbClr val="6e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ctr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00"/>
                </a:solidFill>
                <a:latin typeface="Georgia"/>
              </a:rPr>
              <a:t>объяснительная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 теория</a:t>
            </a:r>
            <a:r>
              <a:rPr b="1" lang="en-US" sz="28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система высказываний, описывающих причинно-следственную структуру исследуемой области объек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Объяснительные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теории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ризнак зрелости нау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Область знания считается научной только тогда, когда в ней появляются объяснительные теор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Объяснительная теор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име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гипотетико-дедуктивную структур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642960" y="199980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Основанием теории служа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набор исходных понятий (величин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набор фундаментальных принципов (постулатов, законов), включающих только исходные понят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5280" y="200016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Исходные понятия и принципы выражаю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основные, наиболее фундаментальные связи и отношения изучаемой области, которыми определяются все остальные явл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. 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Основанием классической механики являю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онятия материальной точки, силы, скорост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три закона динамики Ньютона, связывающие эти понят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Менее фундаментальные законы изучаемой области дедуктивн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выводятся из основоположений теор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28760" y="21427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Исходные понятия и принципы теории формируют </a:t>
            </a: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идеализированный объект теории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т.е.  систем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абстрактных объектов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90000"/>
              </a:lnSpc>
              <a:spcBef>
                <a:spcPts val="975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00"/>
                </a:solidFill>
                <a:latin typeface="Georgia"/>
              </a:rPr>
              <a:t>в классической механике таким объектом является система материальных точек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90000"/>
              </a:lnSpc>
              <a:spcBef>
                <a:spcPts val="975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00"/>
                </a:solidFill>
                <a:latin typeface="Georgia"/>
              </a:rPr>
              <a:t>в молекулярно-кинетической теории – множество замкнутых в определенном объеме хаотически соударяющихся моле</a:t>
            </a:r>
            <a:r>
              <a:rPr b="1" lang="en-US" sz="2600" spc="-1" strike="noStrike">
                <a:solidFill>
                  <a:srgbClr val="660000"/>
                </a:solidFill>
                <a:latin typeface="Georgia"/>
              </a:rPr>
              <a:t>-</a:t>
            </a:r>
            <a:r>
              <a:rPr b="1" lang="ru-RU" sz="2600" spc="-1" strike="noStrike">
                <a:solidFill>
                  <a:srgbClr val="660000"/>
                </a:solidFill>
                <a:latin typeface="Georgia"/>
              </a:rPr>
              <a:t>кул, представляемых в виде абсолютно упругих материальных шариков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90000"/>
              </a:lnSpc>
              <a:spcBef>
                <a:spcPts val="975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00"/>
                </a:solidFill>
                <a:latin typeface="Georgia"/>
              </a:rPr>
              <a:t>в теории относительности – множество инерциальных систе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ое знание как развивающаяся систем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ий и теоретический уровни познан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8360" y="2492280"/>
          <a:ext cx="8229600" cy="2835360"/>
        </p:xfrm>
        <a:graphic>
          <a:graphicData uri="http://schemas.openxmlformats.org/drawingml/2006/table">
            <a:tbl>
              <a:tblPr/>
              <a:tblGrid>
                <a:gridCol w="2674800"/>
                <a:gridCol w="3000600"/>
                <a:gridCol w="2554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660000"/>
                          </a:solidFill>
                          <a:latin typeface="Arial"/>
                        </a:rPr>
                        <a:t>способност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660000"/>
                          </a:solidFill>
                          <a:latin typeface="Arial"/>
                        </a:rPr>
                        <a:t>Уровень познани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660000"/>
                          </a:solidFill>
                          <a:latin typeface="Arial"/>
                        </a:rPr>
                        <a:t>содержани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00"/>
                          </a:solidFill>
                          <a:latin typeface="Arial"/>
                        </a:rPr>
                        <a:t>разу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00"/>
                          </a:solidFill>
                          <a:latin typeface="Arial"/>
                        </a:rPr>
                        <a:t>теоретически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00"/>
                          </a:solidFill>
                          <a:latin typeface="Arial"/>
                        </a:rPr>
                        <a:t>знание законо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00"/>
                          </a:solidFill>
                          <a:latin typeface="Arial"/>
                        </a:rPr>
                        <a:t>чувств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00"/>
                          </a:solidFill>
                          <a:latin typeface="Arial"/>
                        </a:rPr>
                        <a:t>эмпирически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00"/>
                          </a:solidFill>
                          <a:latin typeface="Arial"/>
                        </a:rPr>
                        <a:t>знание факто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Rectangle 103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Идеализированный объект  теори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отобража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абстрагированные свойства реальных вещей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8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онятие объекта, движущегося без трения – по инерци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8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абсолютно твердое или абсолютно черное тел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8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совершенное зеркал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8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идеальный га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57120" y="192888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Абстрактные объек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озволяют отвлечься от второстепенных, несущественных свойств и отношений реального мир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выделить существенные для данного исследования свойства и отношения в чистом вид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Идеализированный объект теор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служит дл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теоретической интерпретации ее исходных понятий и принцип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285840" y="21430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В.С. Степин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идеализированный объект =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= теоретическая мод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57120" y="21427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Абстракция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роцесс и результат отвлечения от объекта отдельных свойств и отнош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ример. Тел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обладать тяжестью – одно из свойств тел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находиться над поверхностью Земли – отношение те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24000" y="2781000"/>
            <a:ext cx="822960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Абстрактный объект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абстракция, рассматриваемая независимо от того предмета, от которого она отвлечен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2349000"/>
            <a:ext cx="8229600" cy="33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Наличие абстрактных объектов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основа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универсальности</a:t>
            </a:r>
            <a:r>
              <a:rPr b="1" i="1" lang="en-US" sz="32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(всеобщности)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 нау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2349360"/>
            <a:ext cx="8229600" cy="37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Формулируется утверждение для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одного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абстрактного объект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а получается знание о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каждом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эмпирическом объекте, от которого отвлечено данное свойство или отнош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8:14:36Z</dcterms:created>
  <dc:creator>David</dc:creator>
  <dc:description/>
  <dc:language>en-US</dc:language>
  <cp:lastModifiedBy>1101049901</cp:lastModifiedBy>
  <dcterms:modified xsi:type="dcterms:W3CDTF">2011-02-04T05:20:21Z</dcterms:modified>
  <cp:revision>61</cp:revision>
  <dc:subject/>
  <dc:title>Слайд 1</dc:title>
</cp:coreProperties>
</file>